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E5D-2B62-493C-82D6-D630E352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0A0-0B13-4644-B021-FF64F541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F32-791C-4159-AB87-CBABC669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A26-C27A-4D68-AD72-FCDB519D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7C3-6878-413B-9CC7-C97890BB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E4A-7762-452B-B9EF-DD1111EF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501-33B0-46F0-A1F1-9A4C8D2E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7C4-6AC0-4F7D-A974-49A73788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A9B-6CBA-42BD-9C43-BA012A22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24C-7B46-45E8-B700-6DC6A0F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C0A-5DDB-493B-82C8-8150F97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E42-2169-4CCC-B679-A59219FA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DA66-6BB3-4CC8-8436-7E6C589BF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2479680" cy="327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3581280"/>
            <a:ext cx="887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se workers?  Are they working for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orking for someone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ey are friends or relatives or are they stranger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your ans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mood are they in?  Are they laughing and t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re they quiet?  What makes you think tha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581640" cy="2516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201960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1200" y="3164040"/>
            <a:ext cx="808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ed to make a painting or a print about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together, what would you show the people do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they be enjoying their work or would they be t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unhapp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s of work do people often enjoy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s of work do people often say they dis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ork would you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58128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Tobacco Bar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Robert Blake, American, born 19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water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4.25” x 19.75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9625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Vegetable Wom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laude Howell, American, 1915-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woodblock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9.25” x 7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2895840" cy="203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6360" y="57913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Fif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19076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setting, characters, details, fact and fiction, inference, compare and contrast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 location, occupations, agriculture,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 painting, print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030920" cy="283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2133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5038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5200" y="5526000"/>
            <a:ext cx="782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painting carefu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the parts of the pai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953240" cy="348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4191120"/>
            <a:ext cx="798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you see in the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etting? Can you identif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lants and any o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5639040" cy="396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1480" y="4495680"/>
            <a:ext cx="861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is happening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ell you when this scene takes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clues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sce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ever been in a place like this?  Where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516480" cy="4648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49402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 different type of artwork.  It is not a painting,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artist cut away the white parts and lef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sections.  He spread in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ved 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essed paper onto the wet ink to ma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171960" cy="419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400" y="192240"/>
            <a:ext cx="826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int h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, characters, structur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just as the painting do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minute and look carefully at this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8080" y="2209680"/>
            <a:ext cx="444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tools or oth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appening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3810240" cy="268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91320" y="380880"/>
            <a:ext cx="207468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3560" y="3468600"/>
            <a:ext cx="8591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ee that ther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hat are they doing, how they are dres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dings; what are they made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nd, the plants, the s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texture, detail, space, light and sha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648320" cy="3271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9680" y="365760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eople are working on a farm.  They are “tying” tobac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magine these people own the farm or are they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paid to work the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imagine they feel about the work they are do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magine they are talking or singing?  Tell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43:3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